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9.gif" ContentType="image/gif"/>
  <Override PartName="/ppt/media/image17.png" ContentType="image/png"/>
  <Override PartName="/ppt/media/image8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5.jpeg" ContentType="image/jpeg"/>
  <Override PartName="/ppt/media/image6.gif" ContentType="image/gif"/>
  <Override PartName="/ppt/media/image1.jpeg" ContentType="image/jpeg"/>
  <Override PartName="/ppt/media/image4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96EA-AFED-4AF5-BE48-E16A0FD1E0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127D-A629-4CC9-B0EA-81E88A6EDACE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C320-742F-4C28-AF49-8710002F40AE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2AA-4938-4F38-A380-1CFB32E52C82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DE95-F7D4-42B1-B718-0E3259E65A67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62B-4F75-4D50-A777-1B50B8FA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970-C8AE-43BE-9296-65E5E848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8C9-1EBD-40B3-8C66-DAA01074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302-1D0C-4BB3-B275-85DB19B6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432-BEFE-4A65-B729-47526BCB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998-73D0-4F65-8126-0E5256C2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A47-104A-4D88-9B49-6379B08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A18-BDB1-4F9C-9DD5-DB36C07B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7ED-0BEC-4FB5-9833-9F6DB43B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34A-D647-472F-BC3E-3CE1C663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F5F-146E-447A-A77C-BFF01828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42D-D8AA-4ACE-A063-473ACF24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8E7F-BC0A-4AF3-8CB8-8240B7ADDCC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65FE-3C1B-4538-8821-A22F5978AF7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714320"/>
            <a:ext cx="7772400" cy="29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Работа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 над  техникой чтения 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в начальной школе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0" y="4786200"/>
            <a:ext cx="37861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Из опыта работы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ШМО учителей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начальных классов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МОУ Алешковской СОШ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0" name="Рисунок 3" descr="enfant.gif"/>
          <p:cNvPicPr/>
          <p:nvPr/>
        </p:nvPicPr>
        <p:blipFill>
          <a:blip r:embed="rId1"/>
          <a:stretch/>
        </p:blipFill>
        <p:spPr>
          <a:xfrm>
            <a:off x="642960" y="428760"/>
            <a:ext cx="2273400" cy="2367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х.jpg"/>
          <p:cNvPicPr/>
          <p:nvPr/>
        </p:nvPicPr>
        <p:blipFill>
          <a:blip r:embed="rId2"/>
          <a:stretch/>
        </p:blipFill>
        <p:spPr>
          <a:xfrm>
            <a:off x="6500880" y="500040"/>
            <a:ext cx="2124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5880" y="164304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6. Мнимое слово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Georgia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Georgia"/>
              </a:rPr>
              <a:t>Цель: 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развитие внимания, правильности чтения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Учитель в ходе чтения произносит неправильные слова, учащиеся прерывают чтение и прочитывают слово с исправлением. Этот вид чтения привлекателен для учащихся тем, что они имеют возможность поправить самого учителя, что поднимает их собственный авторитет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7. Чтение за диктором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Слабо читающим учащимся помогает такой вид чтения, как </a:t>
            </a:r>
            <a:r>
              <a:rPr b="1" lang="ru-RU" sz="2000" spc="-1" strike="noStrike">
                <a:solidFill>
                  <a:srgbClr val="800000"/>
                </a:solidFill>
                <a:latin typeface="Georgia"/>
              </a:rPr>
              <a:t>“чтение за диктором”. 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Диктором может быть и учитель, и хорошо читающий ученик, можно использовать грамзапись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1A3D-C7A1-464A-B51A-2AE72D90BB7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Виды упражнений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ад  правильностью чтения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Georgia"/>
              </a:rPr>
              <a:t>Тексты с «дырками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42960" y="4857840"/>
            <a:ext cx="8229600" cy="14288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Times New Roman"/>
              </a:rPr>
              <a:t>Работа над пониманием прочитанного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41B9-5132-4B75-9C29-A1354C9A4B7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4691-098C-48CF-8CA4-6A4E6D5C07F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Picture 8" descr="D:\My private\Картинки из книги\8.jpg"/>
          <p:cNvPicPr/>
          <p:nvPr/>
        </p:nvPicPr>
        <p:blipFill>
          <a:blip r:embed="rId1"/>
          <a:stretch/>
        </p:blipFill>
        <p:spPr>
          <a:xfrm>
            <a:off x="285840" y="285840"/>
            <a:ext cx="4475160" cy="6286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4572000" y="714240"/>
            <a:ext cx="4214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Arial"/>
              </a:rPr>
              <a:t>За грибами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Боря, Юра, и Таня ходили в лес за грибами. Дети набрали полные корзинки грибов. Вышли на полянку и сели отдохнуть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Но вот надвинулись тучи. Блеснула молния, загремел гром. Ребята взяли корзинки и побежали домой. Надо успеть до дождя!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6" name="Picture 8" descr="D:\My private\Картинки из книги\8.jpg"/>
          <p:cNvPicPr/>
          <p:nvPr/>
        </p:nvPicPr>
        <p:blipFill>
          <a:blip r:embed="rId2"/>
          <a:stretch/>
        </p:blipFill>
        <p:spPr>
          <a:xfrm>
            <a:off x="96840" y="285840"/>
            <a:ext cx="44751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CBB5-991B-46AD-9269-F3063BFB2B9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4BD9-AEDD-4A66-B553-4A396F982D6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Picture 8" descr="D:\My private\Картинки из книги\8.jpg"/>
          <p:cNvPicPr/>
          <p:nvPr/>
        </p:nvPicPr>
        <p:blipFill>
          <a:blip r:embed="rId1"/>
          <a:stretch/>
        </p:blipFill>
        <p:spPr>
          <a:xfrm>
            <a:off x="285840" y="285840"/>
            <a:ext cx="4475160" cy="6286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4572000" y="571680"/>
            <a:ext cx="4214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Arial"/>
              </a:rPr>
              <a:t>Зачем дети пошли в лес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Arial"/>
              </a:rPr>
              <a:t>Много ли грибов они набрали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Arial"/>
              </a:rPr>
              <a:t>Почему дети убежали из леса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Arial"/>
              </a:rPr>
              <a:t>Посмотрите на рисунки.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Arial"/>
              </a:rPr>
              <a:t>По порядку ли они нарисованы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0000"/>
                </a:solidFill>
                <a:latin typeface="Arial"/>
              </a:rPr>
              <a:t>Почему вы так думаете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Arial"/>
              </a:rPr>
              <a:t>Пронумеруйте рисунки в нужном порядке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85880" y="34290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786040" y="6429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786040" y="34290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857160" y="5716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15CD-6C79-4703-9000-BDB3C630177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Picture 8" descr="D:\My private\Картинки из книги\8.jpg"/>
          <p:cNvPicPr/>
          <p:nvPr/>
        </p:nvPicPr>
        <p:blipFill>
          <a:blip r:embed="rId1"/>
          <a:stretch/>
        </p:blipFill>
        <p:spPr>
          <a:xfrm>
            <a:off x="285840" y="285840"/>
            <a:ext cx="4475160" cy="62863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9"/>
          <p:cNvSpPr/>
          <p:nvPr/>
        </p:nvSpPr>
        <p:spPr>
          <a:xfrm>
            <a:off x="4572000" y="714240"/>
            <a:ext cx="4214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Arial"/>
              </a:rPr>
              <a:t>За грибами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Боря, Юра, и Таня ходили в лес за грибами. Дети набрали полные корзинки грибов. Вышли на полянку и сели отдохнуть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Но вот надвинулись тучи. Блеснула молния, загремел гром. Ребята взяли корзинки и побежали домой. Надо успеть до дождя!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9" name="Picture 8" descr="D:\My private\Картинки из книги\8.jpg"/>
          <p:cNvPicPr/>
          <p:nvPr/>
        </p:nvPicPr>
        <p:blipFill>
          <a:blip r:embed="rId2"/>
          <a:stretch/>
        </p:blipFill>
        <p:spPr>
          <a:xfrm>
            <a:off x="96840" y="285840"/>
            <a:ext cx="4475160" cy="6286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5072040" y="42876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Прочитайте текст еще раз!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632-E7B0-40C2-870C-F870711847F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D871-5267-4240-BE7F-729E380EB20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4" name="Picture 8" descr="D:\My private\Картинки из книги\8.jpg"/>
          <p:cNvPicPr/>
          <p:nvPr/>
        </p:nvPicPr>
        <p:blipFill>
          <a:blip r:embed="rId1"/>
          <a:stretch/>
        </p:blipFill>
        <p:spPr>
          <a:xfrm>
            <a:off x="285840" y="285840"/>
            <a:ext cx="4475160" cy="62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D:\My private\Картинки из книги\8.jpg"/>
          <p:cNvPicPr/>
          <p:nvPr/>
        </p:nvPicPr>
        <p:blipFill>
          <a:blip r:embed="rId2"/>
          <a:stretch/>
        </p:blipFill>
        <p:spPr>
          <a:xfrm>
            <a:off x="96840" y="285840"/>
            <a:ext cx="4475160" cy="62863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4572000" y="714240"/>
            <a:ext cx="4214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Arial"/>
              </a:rPr>
              <a:t>За грибами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Боря, Юра, и Таня ходили в лес за грибами. Дети набрали полные корзинки грибов. Вышли на полянку и сели отдохнуть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Но вот надвинулись тучи. Блеснула молния, загремел гром. Ребята взяли корзинки и побежали домой. Надо успеть до дождя!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2571840" y="34290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71680" y="34290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571840" y="6429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642960" y="571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6215040" y="1214280"/>
            <a:ext cx="714240" cy="3574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6929280" y="1500120"/>
            <a:ext cx="164340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572000" y="2214720"/>
            <a:ext cx="157176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5286240" y="2643120"/>
            <a:ext cx="157176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7929720" y="3429000"/>
            <a:ext cx="78552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Прямоугольник 16"/>
          <p:cNvSpPr/>
          <p:nvPr/>
        </p:nvSpPr>
        <p:spPr>
          <a:xfrm>
            <a:off x="4643280" y="4071960"/>
            <a:ext cx="128592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Прямоугольник 17"/>
          <p:cNvSpPr/>
          <p:nvPr/>
        </p:nvSpPr>
        <p:spPr>
          <a:xfrm>
            <a:off x="6286680" y="4071960"/>
            <a:ext cx="114300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Прямоугольник 18"/>
          <p:cNvSpPr/>
          <p:nvPr/>
        </p:nvSpPr>
        <p:spPr>
          <a:xfrm>
            <a:off x="4572000" y="4429080"/>
            <a:ext cx="114300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Прямоугольник 19"/>
          <p:cNvSpPr/>
          <p:nvPr/>
        </p:nvSpPr>
        <p:spPr>
          <a:xfrm>
            <a:off x="6500880" y="4786200"/>
            <a:ext cx="1143000" cy="3574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4071960" y="28584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Читайте текст с «дырками»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6B47-D378-48FF-A8EA-6458D0FB074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6EC4-1154-4BC4-B76D-7285A1AFB73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4" name="Picture 2" descr="D:\My private\Картинки из книги\12.jpg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4214880" y="50004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На горке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За нашим двором есть большая горка. Подъём на горку покрыт льдом. Каждый день бегут туда ребятишки с санками. С утра до вечера стоит на горке шум. Страшно ехать только первый раз. Вот мальчики сели на санки все вместе и помчались стрелой. А Костя съехал на коньках. С лаем бежит за ним Жучка. А шалунья катя с горки скатилась  и в сугроб свалилась.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AA9D-D393-4AB3-8E92-EAC0813E074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6157-67B1-40DC-AD2D-322D7172894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9" name="Picture 2" descr="D:\My private\Картинки из книги\12.jpg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4572000" y="500040"/>
            <a:ext cx="45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Где находится горка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Какая она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то делают дети на горке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Какая картинка лишняя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ридумайте к ней 2-3 предложения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Arial"/>
              </a:rPr>
              <a:t>Пронумеруйте картинки в нужном порядке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242892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64296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42960" y="571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242892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428920" y="2286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BAC1-D817-4374-ADE6-704AB82B427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56D7-D7B8-48F9-A467-88542D95777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9" name="Picture 2" descr="D:\My private\Картинки из книги\12.jpg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242892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64296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64296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242892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2428920" y="2286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14880" y="35712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На горке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За нашим двором есть большая горка. Подъём на горку покрыт льдом. Каждый день бегут туда ребятишки с санками. С утра до вечера стоит на горке шум. Страшно ехать только первый раз. Вот мальчики сели на санки все вместе и помчались стрелой. А Костя съехал на коньках. С лаем бежит за ним Жучка. А шалунья катя с горки скатилась  и в сугроб свалилась.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1143000" y="5857920"/>
            <a:ext cx="72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йдите и прочитайте предложения к каждой картинке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90F8-ABD7-422E-9B3E-6A926524058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4AC-47C3-4504-B713-739D8DC2560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0" name="Picture 2" descr="D:\My private\Картинки из книги\12.jpg"/>
          <p:cNvPicPr/>
          <p:nvPr/>
        </p:nvPicPr>
        <p:blipFill>
          <a:blip r:embed="rId1"/>
          <a:stretch/>
        </p:blipFill>
        <p:spPr>
          <a:xfrm>
            <a:off x="285840" y="285840"/>
            <a:ext cx="4000320" cy="57006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5"/>
          <p:cNvSpPr/>
          <p:nvPr/>
        </p:nvSpPr>
        <p:spPr>
          <a:xfrm>
            <a:off x="242892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42960" y="5000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2428920" y="4000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2428920" y="2286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1a1a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4857840" y="4287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екст с «дырками»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714920" y="85716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Arial"/>
              </a:rPr>
              <a:t>Читайте текст с «дырками», называя пропущенные слов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4286160" y="1643040"/>
            <a:ext cx="450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За нашим двором есть большая горка. Подъём на горку покрыт льдом. Каждый день бегут туда ребятишки с санками. С утра до вечера стоит на горке шум. Страшно ехать только первый раз. Вот мальчики сели на санки все вместе и помчались стрелой. А Костя съехал на коньках.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Прямоугольник 14"/>
          <p:cNvSpPr/>
          <p:nvPr/>
        </p:nvSpPr>
        <p:spPr>
          <a:xfrm>
            <a:off x="6429240" y="2428920"/>
            <a:ext cx="100044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0" name="Прямоугольник 15"/>
          <p:cNvSpPr/>
          <p:nvPr/>
        </p:nvSpPr>
        <p:spPr>
          <a:xfrm>
            <a:off x="4214880" y="2714760"/>
            <a:ext cx="928800" cy="285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Прямоугольник 16"/>
          <p:cNvSpPr/>
          <p:nvPr/>
        </p:nvSpPr>
        <p:spPr>
          <a:xfrm>
            <a:off x="4357800" y="3071880"/>
            <a:ext cx="128592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Прямоугольник 17"/>
          <p:cNvSpPr/>
          <p:nvPr/>
        </p:nvSpPr>
        <p:spPr>
          <a:xfrm>
            <a:off x="7715160" y="3000240"/>
            <a:ext cx="100008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Прямоугольник 18"/>
          <p:cNvSpPr/>
          <p:nvPr/>
        </p:nvSpPr>
        <p:spPr>
          <a:xfrm>
            <a:off x="6357960" y="3714840"/>
            <a:ext cx="107172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Прямоугольник 19"/>
          <p:cNvSpPr/>
          <p:nvPr/>
        </p:nvSpPr>
        <p:spPr>
          <a:xfrm>
            <a:off x="4357800" y="4429080"/>
            <a:ext cx="107136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7500960" y="4357800"/>
            <a:ext cx="1143000" cy="285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Прямоугольник 21"/>
          <p:cNvSpPr/>
          <p:nvPr/>
        </p:nvSpPr>
        <p:spPr>
          <a:xfrm>
            <a:off x="4572000" y="4714920"/>
            <a:ext cx="85716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TextBox 22"/>
          <p:cNvSpPr/>
          <p:nvPr/>
        </p:nvSpPr>
        <p:spPr>
          <a:xfrm>
            <a:off x="1714680" y="564372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В тексте не хватает концовки. Перескажите, глядя на рисунк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15200" cy="60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Овладение полноценным навыком чтения- важнейшее условие успешного обучения в школе по всем предметам. Вместе с тем, чтение – один из основных способов приобретения информаци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3" name="Рисунок 7" descr="kniga_1.gif"/>
          <p:cNvPicPr/>
          <p:nvPr/>
        </p:nvPicPr>
        <p:blipFill>
          <a:blip r:embed="rId1"/>
          <a:stretch/>
        </p:blipFill>
        <p:spPr>
          <a:xfrm>
            <a:off x="857160" y="714240"/>
            <a:ext cx="654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DFA2-CED9-43D7-AEC6-FA8E9524EA2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B24C-4A6F-458A-8093-457CF10A8A5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1" name="Picture 2" descr="D:\My private\Картинки из книги\13.jpg"/>
          <p:cNvPicPr/>
          <p:nvPr/>
        </p:nvPicPr>
        <p:blipFill>
          <a:blip r:embed="rId1"/>
          <a:stretch/>
        </p:blipFill>
        <p:spPr>
          <a:xfrm>
            <a:off x="357120" y="285840"/>
            <a:ext cx="4214880" cy="58165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4572000" y="357120"/>
            <a:ext cx="4214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Гроз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Я испугался и сел под большой дуб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Меня послали в лес за грибами. Я набрал грибов и возвращался домо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Молния попала в дерево. Дуб затрещал, полетели ветки, сучья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Вдруг стало темно. Полил дождь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Я от страха закрыл глаза. Корзина упал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Гроза прошла быстро. Я встал. Капало с деревьев, играло солнце. На голове у меня была шишк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Я собрал грибы и побежал домо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357800" y="1357200"/>
            <a:ext cx="2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4357800" y="32288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4357800" y="7858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4375080" y="228600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4375080" y="38577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4375080" y="47149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Прямоугольник 12"/>
          <p:cNvSpPr/>
          <p:nvPr/>
        </p:nvSpPr>
        <p:spPr>
          <a:xfrm>
            <a:off x="428760" y="585792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Arial"/>
              </a:rPr>
              <a:t>Пронумеруйте части текста по порядку при помощи картинок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4375080" y="55720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FF47-57D1-4FD1-A6C4-4EF546B82D1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8DD7-29E9-45F8-AFBE-F1FA6C995EB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4" name="Picture 2" descr="D:\My private\Картинки из книги\13.jpg"/>
          <p:cNvPicPr/>
          <p:nvPr/>
        </p:nvPicPr>
        <p:blipFill>
          <a:blip r:embed="rId1"/>
          <a:stretch/>
        </p:blipFill>
        <p:spPr>
          <a:xfrm>
            <a:off x="357120" y="285840"/>
            <a:ext cx="4214880" cy="58165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4714920" y="285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</a:rPr>
              <a:t>Прочитайте текст, который получился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572000" y="1071720"/>
            <a:ext cx="4214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Гроз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Меня послали в лес за грибами. Я набрал грибов и возвращался домой. Вдруг стало темно. Полил дождь. Я испугался и сел под большой дуб. Молния попала в дерево. Дуб затрещал, полетели сучья и ветки. От страха я закрыл глаза. Корзина упала. Гроза прошла быстро. Я встал. Капало с деревьев, играло солнце.  На голове у меня была шишка. Я собрал грибы и побежал домо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75C8-F26E-4C83-962E-7AC49891CE2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C983-64F7-4B7F-8795-4EE31473B58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0" name="Picture 2" descr="D:\My private\Картинки из книги\13.jpg"/>
          <p:cNvPicPr/>
          <p:nvPr/>
        </p:nvPicPr>
        <p:blipFill>
          <a:blip r:embed="rId1"/>
          <a:stretch/>
        </p:blipFill>
        <p:spPr>
          <a:xfrm>
            <a:off x="357120" y="285840"/>
            <a:ext cx="4214880" cy="5816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4572000" y="357120"/>
            <a:ext cx="428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Arial"/>
              </a:rPr>
              <a:t>Перескажите текст по началам предложени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Меня послали в лес за грибам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Я набрал  грибов и возвращался домой.  Полил дождь.        Я испугался и сел под дуб.       Молния попала в дерево.        Дуб затрещал, полетели ветки.   Я от страха закрыл глаза.     Корзина  упала. Гроза прошла быстро.    Я встал. Капало с деревьев.     На голове  у меня была шишка.  Я собрал грибы и побежал домой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Прямоугольник 6"/>
          <p:cNvSpPr/>
          <p:nvPr/>
        </p:nvSpPr>
        <p:spPr>
          <a:xfrm>
            <a:off x="6500880" y="1000080"/>
            <a:ext cx="228600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4572000" y="1643040"/>
            <a:ext cx="27860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4572000" y="2000160"/>
            <a:ext cx="121428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7929720" y="1928880"/>
            <a:ext cx="78552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Прямоугольник 10"/>
          <p:cNvSpPr/>
          <p:nvPr/>
        </p:nvSpPr>
        <p:spPr>
          <a:xfrm>
            <a:off x="4572000" y="2286000"/>
            <a:ext cx="135720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7286760" y="2214720"/>
            <a:ext cx="1143000" cy="28548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Прямоугольник 12"/>
          <p:cNvSpPr/>
          <p:nvPr/>
        </p:nvSpPr>
        <p:spPr>
          <a:xfrm>
            <a:off x="4572000" y="2643120"/>
            <a:ext cx="135720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4572000" y="2857680"/>
            <a:ext cx="2143080" cy="28548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Прямоугольник 14"/>
          <p:cNvSpPr/>
          <p:nvPr/>
        </p:nvSpPr>
        <p:spPr>
          <a:xfrm>
            <a:off x="4572000" y="3143160"/>
            <a:ext cx="207180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7929720" y="3143160"/>
            <a:ext cx="85716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5429160" y="3429000"/>
            <a:ext cx="221472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6715080" y="3786120"/>
            <a:ext cx="14288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Прямоугольник 18"/>
          <p:cNvSpPr/>
          <p:nvPr/>
        </p:nvSpPr>
        <p:spPr>
          <a:xfrm>
            <a:off x="6572160" y="4071960"/>
            <a:ext cx="157176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" name="Прямоугольник 19"/>
          <p:cNvSpPr/>
          <p:nvPr/>
        </p:nvSpPr>
        <p:spPr>
          <a:xfrm>
            <a:off x="5643720" y="4357800"/>
            <a:ext cx="3071520" cy="357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8001000" y="642960"/>
            <a:ext cx="409680" cy="642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 flipH="1">
            <a:off x="557172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6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232" name="Заголовок 1"/>
          <p:cNvSpPr/>
          <p:nvPr/>
        </p:nvSpPr>
        <p:spPr>
          <a:xfrm>
            <a:off x="500040" y="1571760"/>
            <a:ext cx="8229600" cy="2714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Times New Roman"/>
              </a:rPr>
              <a:t>Результаты работы над формированием навыка чтения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5009-7B5B-4C4D-BC20-BC0832EE10D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34" name="Содержимое 6" descr=""/>
          <p:cNvPicPr/>
          <p:nvPr/>
        </p:nvPicPr>
        <p:blipFill>
          <a:blip r:embed="rId1"/>
          <a:stretch/>
        </p:blipFill>
        <p:spPr>
          <a:xfrm>
            <a:off x="566640" y="1706400"/>
            <a:ext cx="8242560" cy="45421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Скорость чтения 1 класс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BD51-B2C9-4B17-9A45-73352914608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6AFD-5EE1-4AC0-95BD-F690C8ABD21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39" name="Содержимое 6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Понимание прочитанного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1 класс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941-7CBC-49E2-BA8E-81D3A3517C0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BD5F-A0A8-4EF8-BA65-DC4309F9D78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643040" y="121428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Georgia"/>
              </a:rPr>
              <a:t>СПАСИБО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Georgia"/>
              </a:rPr>
              <a:t>ЗА   ВНИМАНИЕ!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5" name="Рисунок 5" descr="kniga_1.gif"/>
          <p:cNvPicPr/>
          <p:nvPr/>
        </p:nvPicPr>
        <p:blipFill>
          <a:blip r:embed="rId1"/>
          <a:stretch/>
        </p:blipFill>
        <p:spPr>
          <a:xfrm>
            <a:off x="1000080" y="857160"/>
            <a:ext cx="654120" cy="5716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" descr="enfant.gif"/>
          <p:cNvPicPr/>
          <p:nvPr/>
        </p:nvPicPr>
        <p:blipFill>
          <a:blip r:embed="rId2"/>
          <a:stretch/>
        </p:blipFill>
        <p:spPr>
          <a:xfrm>
            <a:off x="3143160" y="3071880"/>
            <a:ext cx="24782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6366-49D2-4F14-87C9-773DBAC898E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вык чтения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64304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ьное и быстрое восприятие и озвучивание слов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ние содержания прочитанного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121D-DC1A-4DFC-862F-5D1B67D7A6B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49968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ы упражнений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ющие скорость чтени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ные на формирование правильности чтени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ные на формирование умений понимать читаемый                  текст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0" name="Рисунок 8" descr="х.jpg"/>
          <p:cNvPicPr/>
          <p:nvPr/>
        </p:nvPicPr>
        <p:blipFill>
          <a:blip r:embed="rId1"/>
          <a:stretch/>
        </p:blipFill>
        <p:spPr>
          <a:xfrm>
            <a:off x="428760" y="714240"/>
            <a:ext cx="1214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8001000" y="642960"/>
            <a:ext cx="40968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 flipH="1">
            <a:off x="557172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6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67" name="Заголовок 1"/>
          <p:cNvSpPr/>
          <p:nvPr/>
        </p:nvSpPr>
        <p:spPr>
          <a:xfrm>
            <a:off x="500040" y="1571760"/>
            <a:ext cx="8229600" cy="2714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Times New Roman"/>
              </a:rPr>
              <a:t>Работа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Times New Roman"/>
              </a:rPr>
              <a:t>над скоростью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Times New Roman"/>
              </a:rPr>
              <a:t>чтения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E6C-F820-48A3-8E01-7D341DA1894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9" name="Содержимое 7" descr=""/>
          <p:cNvPicPr/>
          <p:nvPr/>
        </p:nvPicPr>
        <p:blipFill>
          <a:blip r:embed="rId1"/>
          <a:srcRect l="1304" t="0" r="5362" b="4057"/>
          <a:stretch/>
        </p:blipFill>
        <p:spPr>
          <a:xfrm>
            <a:off x="571680" y="2357280"/>
            <a:ext cx="3890880" cy="3643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2857680" y="19288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СЛОГОВЫЕ   ТАБЛИЦЫ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1" name="Рисунок 9" descr=""/>
          <p:cNvPicPr/>
          <p:nvPr/>
        </p:nvPicPr>
        <p:blipFill>
          <a:blip r:embed="rId2"/>
          <a:stretch/>
        </p:blipFill>
        <p:spPr>
          <a:xfrm>
            <a:off x="4572000" y="2357280"/>
            <a:ext cx="3786120" cy="3643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Times New Roman"/>
              </a:rPr>
              <a:t>Работа над скоростью       чтения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(1-2 кл.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8001000" y="642960"/>
            <a:ext cx="409680" cy="64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 flipH="1">
            <a:off x="557172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6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500040" y="1571760"/>
            <a:ext cx="8229600" cy="2714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Times New Roman"/>
              </a:rPr>
              <a:t>Работа над правильностью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Times New Roman"/>
              </a:rPr>
              <a:t>чтения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Виды упражнений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ад  правильностью чтения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43E2-E698-4EF8-BEB1-0DECF0C07C6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9F68-D124-401C-B901-1B26C86608B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1. Слова, различающиеся одной буквой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ол — пол — вол — гол</a:t>
            </a: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день — пень — тень — лень</a:t>
            </a: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2. Слова, различающиеся несколькими буквами: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белка — булка — балка — палка — скалка;</a:t>
            </a: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трелка — грелка — тарелка — горелка.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3.Слова, имеющие общую часть: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вода — водный — водяной;</a:t>
            </a: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ад — садовый — садовник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693A-2016-4EA3-8E69-5A93F31D4A8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878A-2397-4CA9-BED1-562A42E388D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4. Будьте внимательны</a:t>
            </a:r>
            <a:br>
              <a:rPr sz="2000"/>
            </a:br>
            <a:r>
              <a:rPr b="0" lang="ru-RU" sz="1400" spc="-1" strike="noStrike">
                <a:solidFill>
                  <a:srgbClr val="800000"/>
                </a:solidFill>
                <a:latin typeface="Georgia"/>
              </a:rPr>
              <a:t>Прочитайте слова, в некоторых из них забыли поставить мягкий знак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Georgia"/>
              </a:rPr>
              <a:t>ЛИСТ, ОКУН, КРИК, КАРАС, СОМ, МОХ, ГУС, ЛЕН, РУЛ, НОЛ, ТИР, ПЫЛ, ВЕС, ДЕН, ШЕЛ, КОН, ЮЛ, ЛОС, УГОЛ, ТРУД, ЛЕН, БОЛ, ТОМ, ПЛОТ.</a:t>
            </a:r>
            <a:br>
              <a:rPr sz="1400"/>
            </a:b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5. «Слова спрятались»</a:t>
            </a:r>
            <a:br>
              <a:rPr sz="1800"/>
            </a:br>
            <a:r>
              <a:rPr b="0" lang="ru-RU" sz="1400" spc="-1" strike="noStrike">
                <a:solidFill>
                  <a:srgbClr val="800000"/>
                </a:solidFill>
                <a:latin typeface="Georgia"/>
              </a:rPr>
              <a:t>Перед вами слоги, среди которых спрятались знакомые слова. Попробуйте их найти и записать печатными буквами: слова — в столбик слева, слоги — в столбик справа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ПРИ, ОРХ, ШЛИ, ДОМ, КРО, МАК, РИС, ФРЕ, ШКА, БЛЕ, ПРЯ, РОТ, СОН, ДЫМ, ФРУ, СЛЕ, ФЛЕ, ЯРП, ПОЛ, ЛОБ, ШУМ, ВЗЯ, СВИ, ACT, РЕВ, САД, ВЕС, РАД, ШТИ, ВСЕ, ПТИ, ОЛТ, КВА, ЖНИ, ВЛЕ, ПОС, КОТ, МЕД, ЛЕД, ЦВЕ.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Виды упражнений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ад  правильностью чтения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6:48:02Z</dcterms:created>
  <dc:creator>AdmiN</dc:creator>
  <dc:description>http://aida.ucoz.ru</dc:description>
  <dc:language>en-US</dc:language>
  <cp:lastModifiedBy>Customer</cp:lastModifiedBy>
  <dcterms:modified xsi:type="dcterms:W3CDTF">2010-10-18T18:35:49Z</dcterms:modified>
  <cp:revision>41</cp:revision>
  <dc:subject/>
  <dc:title>Слайд 1</dc:title>
</cp:coreProperties>
</file>